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ЕДМЕТ:Енглески јези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ЕДАВАЧ: Душица Лази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Food and Drug Interactions</a:t>
            </a:r>
            <a:endParaRPr b="0" lang="en-US" sz="28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medicine has given us many useful drugs that not only prolong and save lives, but improve the quality of our lives. The beneficial effects of the drugs we take can be affected by the foods in our diet. These food and drug interactions can have dramatic, even dangerous, effects on the way our bodies react to drugs. The purpose of this fact sheet is to present the most common food and drug interactions and to help you work with your health professional to see that you get the best results from the drugs that you must tak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major types of food and drug interaction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rugs interfere with the absorption, excretion or use in the body of one or more nutrients…The rest of the lesson can be found in “English Language in Pharmacy Practice” by Leontina Kern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ure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oagulant dru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yroid comp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comp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am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types of inter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effects on nutritional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e of antac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use of diure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effects on drug absorp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effects on drug uti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effects of sodium and alcoh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synonyms for each of the following words:</a:t>
            </a:r>
            <a:endParaRPr b="0" lang="en-US" sz="28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zardo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prefixes im-, in-, un-, and non-, to form words opposite in meaning:</a:t>
            </a:r>
            <a:endParaRPr b="0" lang="en-US" sz="28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mm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hrasal verbs in the following sentences:</a:t>
            </a:r>
            <a:endParaRPr b="0" lang="en-US" sz="2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smoking. It’s bad for your heal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has high blood pressure. The doctor has suggested her to…………cigarettes and fatty foo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a very obese person. He should…………a well-balanced di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n’t ……………some exercise, you’ll have pain in your b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must…………….taking these antibiotics if we want to feel bet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new methods have to be………….first and then appl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entences using causative have or get:</a:t>
            </a:r>
            <a:endParaRPr b="0" lang="en-US" sz="28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ll ………………(her arm/operate) yester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just……………(her nose/brea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this machine/fi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is speech/write) at the mo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 better…………….(this report/finish) as soon as pos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en……………………(all necessary analyses/do) while they were in hosp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a:t>
            </a:r>
            <a:endParaRPr b="0" lang="en-US" sz="28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вести краћи текст на енглески језик</a:t>
            </a:r>
            <a:r>
              <a:rPr b="0" lang="sr-C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Studentska sluzba</cp:lastModifiedBy>
  <dcterms:modified xsi:type="dcterms:W3CDTF">2012-04-26T11:18:49Z</dcterms:modified>
  <cp:revision>17</cp:revision>
  <dc:subject/>
  <dc:title>Slide 1</dc:title>
</cp:coreProperties>
</file>